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AEBD-C925-4EBB-AC4D-A2F34854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50C-D89F-4E89-9CFF-6FA9AD56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FBF-2320-4B84-AF73-22969DC0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A9B-813D-4827-A830-D66AB32B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E88-866C-40CA-93F7-E0A11E50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BEF-825C-4393-8EE9-2F8C2E39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650-33D8-406E-B8B3-8B86B8D2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D76-D10F-4880-92B6-B059D103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7A6-B3E8-407F-AB1F-ED5E630E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7C6-A0F4-4C4D-BC53-8D6DA1B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1A8-EB32-419E-AAE2-F5841B2E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532-9076-4406-AC3F-C2C23BB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0D6D-7609-4F82-AD2D-292541ED7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a a II-a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gidi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amna dobroge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a   E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eteni necuvanta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i dib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etenia culor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eneri in bucu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9:13Z</dcterms:created>
  <dc:creator>MXG</dc:creator>
  <dc:description/>
  <dc:language>en-US</dc:language>
  <cp:lastModifiedBy>MXG</cp:lastModifiedBy>
  <dcterms:modified xsi:type="dcterms:W3CDTF">2012-12-02T11:48:24Z</dcterms:modified>
  <cp:revision>3</cp:revision>
  <dc:subject/>
  <dc:title>Clasa a II-a A Medgidia  </dc:title>
</cp:coreProperties>
</file>